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65BE-E1F6-4057-A0C2-70AD86B7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077D-1281-4CBA-8AE4-42CE8316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D437-5FDD-41A6-AD49-5CC6A4D5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2504-F2E8-4A91-98E4-34CC92A6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3D9F-B482-4261-A883-1E146AED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B906-4ADC-4768-B45D-52148FCB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561F-DEA8-4FF8-A3E1-3C1600AF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4722-B96C-4893-AEB7-EA4EBCBC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DF69-98E3-4F19-8261-E8B17E56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B303-279C-4BEB-9C2E-0E2F0D52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3FCD-9AB2-489F-8B0F-9780C5F7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790-B81B-4F32-BE4A-C1517899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D00C-4E66-4153-8284-9BBC7E9E0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08:05:19Z</dcterms:created>
  <dc:creator>Grupo Editorial</dc:creator>
  <dc:description/>
  <dc:language>en-US</dc:language>
  <cp:lastModifiedBy>Grupo Editorial</cp:lastModifiedBy>
  <dcterms:modified xsi:type="dcterms:W3CDTF">2001-09-28T08:07:34Z</dcterms:modified>
  <cp:revision>1</cp:revision>
  <dc:subject/>
  <dc:title>Sin título de diapositiva</dc:title>
</cp:coreProperties>
</file>